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155E-0F34-4C72-A3EF-4DD123D7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B397-F110-4055-A395-44F77716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670A-F134-4168-A86F-B129E468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120-286D-4D1F-BFA9-AC907500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9949-C9DB-4C1C-8DA5-60A32F25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D60F-6DF0-424E-8862-353C78BB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86D8-5511-4C2C-AC47-629772C8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DA74-F45C-435A-ACBC-26299AF8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0E7D-DA5C-4162-BCF2-41789599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49A6-171E-47CA-99B4-D4B13542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1F96-B463-4F74-BA69-0E616BE6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0DC-E599-4399-8D1F-70A685CC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8F96-D39A-4FCC-8AA3-9401C709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3974-12FF-4FCF-9FD2-4B1C99BA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33A9-D3D2-47DC-B321-95DD1118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CB31-D791-4646-8211-3A71CE5B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CE93-1A61-4BFE-91B8-A2F14D8C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1E9D-DB19-4C1F-AD08-936EB07E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62E-32A2-4C7A-A4E3-F328DF20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057-E5D8-403B-810B-D884C554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13FF-D15E-40A5-AE7D-77D2C39A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774D-B6DF-47D0-ABC0-A01AA1E9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7E9-8469-469D-ADD1-F1413F11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CEB-69C3-4C76-90AC-C166BCA6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87A9-A5CB-4773-9F5F-3494B84F2684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094E-ABDE-400B-846C-FF7033A2B3F6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7772400" cy="1512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ff00"/>
                </a:solidFill>
                <a:latin typeface="Times New Roman"/>
              </a:rPr>
              <a:t>Задачи на движение</a:t>
            </a:r>
            <a:endParaRPr b="0" lang="en-US" sz="4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56000" y="3933360"/>
            <a:ext cx="5486400" cy="15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64c"/>
                </a:solidFill>
                <a:latin typeface="Times New Roman"/>
              </a:rPr>
              <a:t>Учитель математики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64c"/>
                </a:solidFill>
                <a:latin typeface="Times New Roman"/>
              </a:rPr>
              <a:t>Комбарова М.А, Новоярковская СОШ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-349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«Через математические знания в школе, лежит широкая дорога к почти необозримым областям труда и открытий»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                                     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А. Маркушевич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Выполните устно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0,5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2                                          0,22 – В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2,2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0,1                                         1 - Д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15,5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10                                        182 - И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5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6,6                                           33 – Ж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34,5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100                                      155 -И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2,5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40                                          3450 - Е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45,5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4                                           29 - Е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14,5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2                                         100 - Н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Работа по готовым чертежам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7345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68360" y="2637000"/>
            <a:ext cx="3383280" cy="13968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64c"/>
                </a:solidFill>
                <a:latin typeface="Century Schoolbook"/>
              </a:rPr>
              <a:t>1</a:t>
            </a:r>
            <a:r>
              <a:rPr b="0" lang="en-US" sz="1100" spc="-1" strike="noStrike">
                <a:solidFill>
                  <a:srgbClr val="00264c"/>
                </a:solidFill>
                <a:latin typeface="Century Schoolbook"/>
              </a:rPr>
              <a:t>. Рассмотрите рисунок 14 и ответьте на вопросы:</a:t>
            </a:r>
            <a:endParaRPr b="0" lang="en-US" sz="11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2" name="picture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2352960" cy="7221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03" name=""/>
          <p:cNvSpPr/>
          <p:nvPr/>
        </p:nvSpPr>
        <p:spPr>
          <a:xfrm>
            <a:off x="2916360" y="3716280"/>
            <a:ext cx="2246040" cy="11268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64c"/>
                </a:solidFill>
                <a:latin typeface="Century Schoolbook"/>
              </a:rPr>
              <a:t>6 </a:t>
            </a:r>
            <a:r>
              <a:rPr b="1" i="1" lang="en-US" sz="800" spc="-1" strike="noStrike">
                <a:solidFill>
                  <a:srgbClr val="00264c"/>
                </a:solidFill>
                <a:latin typeface="Century Schoolbook"/>
              </a:rPr>
              <a:t>км/ч                                                     </a:t>
            </a:r>
            <a:r>
              <a:rPr b="1" lang="en-US" sz="900" spc="-1" strike="noStrike">
                <a:solidFill>
                  <a:srgbClr val="00264c"/>
                </a:solidFill>
                <a:latin typeface="Century Schoolbook"/>
              </a:rPr>
              <a:t>3 </a:t>
            </a:r>
            <a:r>
              <a:rPr b="1" i="1" lang="en-US" sz="800" spc="-1" strike="noStrike">
                <a:solidFill>
                  <a:srgbClr val="00264c"/>
                </a:solidFill>
                <a:latin typeface="Century Schoolbook"/>
              </a:rPr>
              <a:t>км/ч</a:t>
            </a: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3933720"/>
            <a:ext cx="4078440" cy="162720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64c"/>
                </a:solidFill>
                <a:latin typeface="Century Schoolbook"/>
              </a:rPr>
              <a:t>Рис. 14</a:t>
            </a:r>
            <a:endParaRPr b="0" lang="en-US" sz="9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ts val="1511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64c"/>
                </a:solidFill>
                <a:latin typeface="Century Schoolbook"/>
              </a:rPr>
              <a:t>1) Догонит ли второй пешеход (находящийся в точке </a:t>
            </a:r>
            <a:r>
              <a:rPr b="1" i="1" lang="en-US" sz="800" spc="-1" strike="noStrike">
                <a:solidFill>
                  <a:srgbClr val="00264c"/>
                </a:solidFill>
                <a:latin typeface="Century Schoolbook"/>
              </a:rPr>
              <a:t>А) </a:t>
            </a:r>
            <a:r>
              <a:rPr b="0" lang="en-US" sz="1100" spc="-1" strike="noStrike">
                <a:solidFill>
                  <a:srgbClr val="00264c"/>
                </a:solidFill>
                <a:latin typeface="Century Schoolbook"/>
              </a:rPr>
              <a:t>первого (находящегося в точке В)?</a:t>
            </a:r>
            <a:endParaRPr b="0" lang="en-US" sz="11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ts val="1511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64c"/>
                </a:solidFill>
                <a:latin typeface="Century Schoolbook"/>
              </a:rPr>
              <a:t>2) С какой скоростью второй пешеход приближается к первому?</a:t>
            </a:r>
            <a:endParaRPr b="0" lang="en-US" sz="1100" spc="-1" strike="noStrike">
              <a:solidFill>
                <a:srgbClr val="00264c"/>
              </a:solidFill>
              <a:latin typeface="Times New Roman"/>
            </a:endParaRPr>
          </a:p>
          <a:p>
            <a:pPr lvl="1" marL="3240">
              <a:lnSpc>
                <a:spcPts val="1511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64c"/>
                </a:solidFill>
                <a:latin typeface="Century Schoolbook"/>
              </a:rPr>
              <a:t>3) Через какое время второй пешеход догонит первого?</a:t>
            </a:r>
            <a:endParaRPr b="0" lang="en-US" sz="11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ts val="1511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64c"/>
                </a:solidFill>
                <a:latin typeface="Century Schoolbook"/>
              </a:rPr>
              <a:t>4) На каком расстоянии от </a:t>
            </a:r>
            <a:r>
              <a:rPr b="1" i="1" lang="en-US" sz="800" spc="-1" strike="noStrike">
                <a:solidFill>
                  <a:srgbClr val="00264c"/>
                </a:solidFill>
                <a:latin typeface="Century Schoolbook"/>
              </a:rPr>
              <a:t>А </a:t>
            </a:r>
            <a:r>
              <a:rPr b="0" lang="en-US" sz="1100" spc="-1" strike="noStrike">
                <a:solidFill>
                  <a:srgbClr val="00264c"/>
                </a:solidFill>
                <a:latin typeface="Century Schoolbook"/>
              </a:rPr>
              <a:t>второй пешеход догонит первого? На каком расстоянии от </a:t>
            </a:r>
            <a:r>
              <a:rPr b="1" i="1" lang="en-US" sz="800" spc="-1" strike="noStrike">
                <a:solidFill>
                  <a:srgbClr val="00264c"/>
                </a:solidFill>
                <a:latin typeface="Century Schoolbook"/>
              </a:rPr>
              <a:t>В?</a:t>
            </a: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6" name="Rectangle 3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7848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Подведение    итогов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а)Если все задания решены, но нет акций, то отметка только «3»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б) Если верно решено хотя бы три задания самостоятельно то - тоже «3»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в) Три правильно решенных не своих заданий отметка «5»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г) Отметка «5» у того, кто заработал больше всех акций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3680" y="7232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Rectangle 3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7724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2" name="Rectangle 3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77724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05:52:25Z</dcterms:created>
  <dc:creator>Таня</dc:creator>
  <dc:description/>
  <dc:language>en-US</dc:language>
  <cp:lastModifiedBy>User</cp:lastModifiedBy>
  <dcterms:modified xsi:type="dcterms:W3CDTF">2013-11-25T17:13:38Z</dcterms:modified>
  <cp:revision>43</cp:revision>
  <dc:subject/>
  <dc:title>Тема: «Противоположные числа». </dc:title>
</cp:coreProperties>
</file>